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EBF-EEF7-4CAD-AF60-3CFD1EF7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1F2-3C63-43BB-B55A-C5791975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6AD-0D6E-4C80-8412-77C663F6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EB7-C21F-4405-9655-910EA1B9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110-9A8E-4CE6-B96A-29655AEB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2A3-20A9-40FB-922C-F85DAA71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7E3-E007-4404-8FB7-2957A4D6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208-BAD2-4A65-84A8-EEDBD8D6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4D6-CB93-4B92-BF50-47C9A89A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2AC-52F4-4A53-B53F-A33CEFED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E64-ABAB-47EE-8C4F-356209EB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978-964B-4AA9-911C-0E796040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A55D1-7AF7-47E0-8B42-C64B1C699E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720720"/>
            <a:ext cx="6840360" cy="59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63600" y="1743120"/>
            <a:ext cx="7016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ndo a cigarra em cantigas na inv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Passado todo o ver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Achou-se em penúria extr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Na tormentosa es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Não lhe restando migal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Que trincasse, a tagar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Foi valer-se da formig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Que morava perto d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539640"/>
            <a:ext cx="1800360" cy="216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3440" y="360360"/>
            <a:ext cx="5776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80"/>
                </a:solidFill>
                <a:latin typeface="Arial"/>
              </a:rPr>
              <a:t>A CIGARRA E A FORMI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47920" y="2208240"/>
            <a:ext cx="53928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ogou-lhe que lhe emprestas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Pois tinha riqueza e brilh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Algum grão com que manter-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Até voltar o acesso est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60720" y="4319640"/>
            <a:ext cx="5580000" cy="23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00360" y="2160720"/>
            <a:ext cx="4208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“Amiga”, diz a cigarr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- “Prometo, á fé d'anim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Pagar-vos antes d'ag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Os juros e o principa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2072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27120" y="1800360"/>
            <a:ext cx="5673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formiga nunca empres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Nunca dá, por isso ju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-”No verão em que lidava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Á pedinte ela pergu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Responde a outra: - “Eu can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Noite e dia, a toda a hor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-”Oh! Bravo!”, torna a formi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-”Cantavas? Pois dance agora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180036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2:21:58Z</dcterms:created>
  <dc:creator/>
  <dc:description/>
  <dc:language>en-US</dc:language>
  <cp:lastModifiedBy/>
  <cp:revision>1</cp:revision>
  <dc:subject/>
  <dc:title/>
</cp:coreProperties>
</file>